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9907588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8472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38080" y="3944520"/>
            <a:ext cx="78472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59280" y="1676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44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59280" y="3944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25264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91280" y="1676520"/>
            <a:ext cx="25264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44480" y="1676520"/>
            <a:ext cx="25264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38080" y="3944520"/>
            <a:ext cx="25264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91280" y="3944520"/>
            <a:ext cx="25264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44480" y="3944520"/>
            <a:ext cx="25264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38080" y="1676520"/>
            <a:ext cx="784728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847280" cy="43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9320" cy="43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59280" y="1676520"/>
            <a:ext cx="3829320" cy="43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38080" y="380520"/>
            <a:ext cx="777096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59280" y="1676520"/>
            <a:ext cx="3829320" cy="43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38080" y="3944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9320" cy="43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9280" y="1676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59280" y="3944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9280" y="1676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3944520"/>
            <a:ext cx="78472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38080" y="1676520"/>
            <a:ext cx="7847280" cy="43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62120" y="6400800"/>
            <a:ext cx="6324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Arial"/>
              </a:rPr>
              <a:t>TTÜ 2006    T.Tammet    Programmeerimine       1  loeng 1   lk   </a:t>
            </a:r>
            <a:r>
              <a:rPr b="1" lang="en-GB" sz="1400" spc="-1" strike="noStrike">
                <a:solidFill>
                  <a:srgbClr val="6666ff"/>
                </a:solidFill>
                <a:latin typeface="Arial"/>
              </a:rPr>
              <a:t>- </a:t>
            </a:r>
            <a:fld id="{1B92CB8E-9D19-4D5E-96AC-2FE890359714}" type="slidenum">
              <a:rPr b="1" lang="en-GB" sz="1400" spc="-1" strike="noStrike">
                <a:solidFill>
                  <a:srgbClr val="6666ff"/>
                </a:solidFill>
                <a:latin typeface="Arial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8080" y="6324480"/>
            <a:ext cx="7772400" cy="18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math.hws.edu/javanotes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java.sun.com/j2se/downloads.html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20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grammeerimis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õhikursu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TI0010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43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Kursuse </a:t>
            </a:r>
            <a:r>
              <a:rPr b="1" i="1" lang="en-GB" sz="2400" spc="-1" strike="noStrike">
                <a:solidFill>
                  <a:srgbClr val="000099"/>
                </a:solidFill>
                <a:latin typeface="Arial"/>
              </a:rPr>
              <a:t>esialgne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loengukava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34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issejuhatus, meeldetuletus, Java kasutamine, Java ja C võrdlus, lihtsad näited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Juhtimiskonstruktsioonid ja tsüklid. Funktsioonid ehk alamprogrammid. Lühisissejuhatus klassidesse.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dmed. Massiivid ja struktuurid. Failid. Võrk. Veatöötlu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ailide kasutamise jätk. Binaarne otsing, sorteerimine, rekursioo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orteerimise jätk. Seejärel: objektid ja klassid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bjektide jätk. Seejärel: Graafika ja kasutajaliide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Kasutajaliides: komponendid, sündmuse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Kolmas praktikum: olulist, näiteid võrgurakenduses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Kolmas praktikum: olulist, näiteid GUI tegemises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UI tegemise lisainfot. Otsingualgoritmide algu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tsingualgoritmide jätk. Neljanda praktikumi sissejuhatu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Keerukamad andmestruktuurid. Puud, hash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valdiste süntaksianalüü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rverid, threadid ja protsessid: paralleeltöö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rendusmetoodikad ja abivahendi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KORDAMINE JA RESERV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KORDAMINE JA RESERV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88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Programmi kirjutamise etapid: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56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ting the program text into the computer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mpiling the program, an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unning the compiled program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al step - running the program - either 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cation - program running without a www brow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et- program running in a www brow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rvlet- program running in a (web) ser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93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Java: APPLICATIO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89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class HelloWorld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/ A program to display the mess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/ "Hello World!" on standard outpu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Hello World!"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   // end of class HelloWorl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ompileerime: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avac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HelloWorld.java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=&gt;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HelloWorld.cla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aneme käsurealt käima: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java HelloWorl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unction called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, with a defini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tat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98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Java: APPLE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838080" y="379080"/>
            <a:ext cx="7772400" cy="306720"/>
            <a:chOff x="838080" y="379080"/>
            <a:chExt cx="7772400" cy="306720"/>
          </a:xfrm>
        </p:grpSpPr>
        <p:sp>
          <p:nvSpPr>
            <p:cNvPr id="102" name=""/>
            <p:cNvSpPr/>
            <p:nvPr/>
          </p:nvSpPr>
          <p:spPr>
            <a:xfrm>
              <a:off x="838080" y="68436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8609040" y="37908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923400" y="4038480"/>
            <a:ext cx="5789160" cy="23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ompileerime:  javac Helloa.java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Helloa.cla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TML failis: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Tere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ee on Hello applet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applet code = “Helloa”  width=120 height=120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/applet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Hello applet lopp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mport java.applet.*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mport java.awt.*  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Helloa extends Apple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void init() {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size(300, 500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void paint(Graphics g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g.drawString("Hello", 10,50);      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Compiler, bytecod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109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752480" y="2895480"/>
            <a:ext cx="5664240" cy="1136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Executing bytecod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115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90720" y="2590920"/>
            <a:ext cx="6933960" cy="2071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Program class structur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34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program is defined by a public class that takes the form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rogram-name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optional-variable-declarations-and-subrouti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tat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optional-variable-declarations-and-subrouti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121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Variables &amp; primitive nam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712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0000"/>
              </a:lnSpc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N  n  rate  x15   a_long_name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ime_is_$   HelloWorl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HelloWorld, helloworld, HELLOWORLD, and hElloWorLD are all distinct nam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served words include: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lass, public, static, if, else, while, and several dozen other word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 assignment statement takes the form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ariabl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xpress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ate = 0.07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terest = rate * principal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126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Data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33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ava has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ery man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ata types built into it, and you (as a programmer) can create as many more as you want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ever, other than the primitive data types,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ll the other data in a Java program will be represented as an objec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 So there is a fundamental split in the data a Java program deals with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+------------------------+----------------------+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                        |                      |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  Primitive types       |       Objects        |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                        |                      |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+------------------------+----------------------+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l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131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Primitive TYP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764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primitive types are named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yte, short, int, long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loat, double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har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Symbol" charset="2"/>
              <a:buChar char="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hor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corresponds to two bytes (16 bits). Variables of type short have values in the range -32768 to 32767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Symbol" charset="2"/>
              <a:buChar char="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corresponds to four bytes (32 bits). Variables of type int have values in the range -2147483648 to 2147483647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Symbol" charset="2"/>
              <a:buChar char="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ong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corresponds to eight bytes (64 bits). Variables of type long have values in the range -9223372036854775808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 to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9223372036854775807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result: rate &gt; 0.0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: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"I said, \"Are you listening!\"\n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136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Loengu sisu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80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Ülevaade kursuse eesmärkide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rjandus, vii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imumisajad, lektor, assistendid, eksam j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aktikumi tööd, tähtajad, põhimõt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engukav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ava mootor, kompileerimine, eripära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ava, C ja C#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htsad näited, muutujad, andmetüübi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48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Variable assignmen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81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ype-na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ariable-na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ype-na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ariable-na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xpress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t N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ouble x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ouble rate = 0.07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har space = ' '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ou can create several variables in the same declaration, if you separate them by commas. For exampl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ouble x,y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har first = 'D'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iddle = 'J'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ast = 'E'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t i, j = 17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141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Interest calculatio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798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Interest {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// the value of the investment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double principal = 17000;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// the annual interest r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double rate = 0.07;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// interest earned in one yea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double interest;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nterest = principal * rate;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ncipal = principal + interest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                  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"The interest earned is $"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interest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"The value of the investment after one year is $"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principal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// end of main()      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// end of class Intere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146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Block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83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block is the simplest type of statement. Its purpose is simply to group a sequence of statements into a single statement. The format of a block 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tat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re are two examples of block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System.out.print("The answer is "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System.out.println(ans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  // This block exchanges the values of x and 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t temp = x;  // declare temp and store x in i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x = y;         // copy value of y into x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y = temp;      // copy value of temp into 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151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While LOOP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67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while loop has the form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oolean-expression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tat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ce the statement can be, and usually is, a block, many while loops have the form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oolean-expression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tat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156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While LOOP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47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re is an example of a while loop that simply prints out the numbers 1, 2, 3, 4, 5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t number = 1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while ( number &lt; 6 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number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number = number + 1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Done!"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161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While LOOP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807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Interest2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double principal = 17000;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double rate = 0.07;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nt years = 0;  // counts yea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while (years &lt; 5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double interest = principal * rate;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ncipal = principal + interest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years = years + 1;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"The value of the investment after "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(years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(" years is $");            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principal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// end of while loop                   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// end of main(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// end of class Interest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166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IF statemen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5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 if statement has one of the form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oolean-expression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tat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tat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oolean-expression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tat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s usual, each of th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atemen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's in an if statement can be a block, so that an if statement often looks like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oolean-expression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tatem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tatem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f (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oolean-expression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) {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tatements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171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IF statemen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841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 x &gt; y 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nt temp = x;  // declare temp and store x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x = y;         // copy value of y into x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y = temp;      // copy value of temp into 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inally, here is an example of an if statement that includes an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else par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 years &gt; 1 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"The value of the investment after "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(years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(" years is $"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else {  // handle case for 1 yea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"The value of the investment after 1 year is $"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 // end of if stat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principal);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176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Kursuse eesmärk, eeldused, põhimõtted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13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Õpetada programmeerimise aluseid ja tehnoloogiat üldisel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eldades kerget varasemat kokkupuutumist programmeerimisega vähemalt eeldusaine Informaatika II mahu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õhk on praktiliste kogemuste ja oskuste omandamisel: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aktikumitöö on tähtsam, kui loeng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askeelena kasutatakse Javat, vältides samas eriliselt Java-päraseid meetodeid, teeke jms. Ei ole spetsiaalne “Java-kursus”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aktikumides loodavad rakendused on reeglina käsurea ja omaette akendega rakendused, mitte apletid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ursuse lõpetaja on alles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GAJ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programmeerija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53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-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Kursuse aeg, koht, eksam, praktikum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engud: kolmapäeviti kell 14.00-15.30 ruumis VII-131 (kohe fuajee kõrval).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enguid loeb T.Tamm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okku 16 (?) loengu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aktikumid eraldi AK arvutiklassides: eri gruppidel eri aegadel, 1 praktikum nädal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aktikume korraldavad assistendid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ursus lõpeb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EKSAMIGA.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ursuse edukaks lõpetamiseks tuleb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ha ära praktilised tööd, neid tuleb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oritada edukalt eks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58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Kursuse materjalid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9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ursuse www-leh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ttp://www.lambda.ee/index/Programmeerimise_põhikursu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amine õpik kursuse juurde on tasuta e-book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vid Ec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“Introduction to Programming Using Jav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urth Edition, Summer 200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math.hws.edu/javanotes/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terjalid ilmuvad loengute eel või järel võrku. Alati on olemas loengu üldplaan ja põhipunktid, kuid palju seletavaid detaile on võrgus puudu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63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Eksami ja praktikumi ülesanded ja nõuded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827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ksam: kirjalik, lisamaterjale kasutada ei võ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aktikumid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0320" indent="-30312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eseisev töö (ei mingeid grup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0320" indent="-30312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ssejuhatav ülesanne: see näd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0320" indent="-30312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li ülesanne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7520" indent="-30312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simene rakendus: tikumäng, ainult tekstiliid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7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ähtaeg: 29. septemb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7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7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on esialgsed variandid, mida muudetak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7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7520" indent="-30312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kstifailidest mikroandmebaas, ainult tekstilii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7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ähtaeg: 27 oktoob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7520" indent="-30312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UI-ga võrgurakendus (http-d kasutav klient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7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ähtaeg 24. nove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7520" indent="-30312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UI-ga connect-four mäng (otsing mängupuust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7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ähtaeg: 22. detse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0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0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0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68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Olulist praktikumi kohta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74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ksamile pääsemiseks peavad olema sooritatud vähemalt kolm neljast praktikumi-ülesandest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uhul, kui üks neljast ülesandest jääb realiseerimata, saab selle eest eksamil 10 trahvipunkti (eksami maksimumpunktid on 100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ga hilinenud ülesanne annab 5 trahvipunkti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ärast 22. detsembrit ei aktsepteerita enam ühtegi ülesannet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ga ülesanne tuleb programmeerida iseseisvalt ja näidata praktikumi juhendajale praktikumi ajal ette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-postiga saadetud lahendusi ei aktsepteerita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B! Ülesande arvestamiseks ütle juhendajale praktikumi ajal ise, kui soovid lahendatud ülesannet näidata: juhendaja ei hakka reeglina ise õigeagselt uurima, et kas on ülesanne ikka tehtu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73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Vajalik tarkvara kodus töötamiseks (kes soovib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ava versioon J2SE (Java 2 standard edition) JDK (software development kit)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õmba SUN-i lehelt 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java.sun.com/j2se/downloads.htm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vähemalt 1.5 või uuem versio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idi vanemate versioonide (1.3.1 ja uuemad) kasutamine on sama O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B! Vajalik on JDK (vana nimi oli SDK), mitte JRE, ja nimelt J2SE (standard edition), mitte J2ME (micro edition) või J2EE (enterprise edition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a ja lihtne programmeerisele kohandatud tekstiredaktor. Soovitan redaktorit SciTE: http://www.scintilla.org/SciTE.htm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78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Kursuse teemad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ptember: juhtimiskonstruktsioonid, andme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ktoober: objektid, kasutajaliides ja graafika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vember: otsing, rekursioon, puu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tsember: paralleeltöö, metoodika, var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83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nel</cp:lastModifiedBy>
  <cp:revision>0</cp:revision>
  <dc:subject/>
  <dc:title> </dc:title>
</cp:coreProperties>
</file>